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EC6-1AC5-4B34-B3C3-DD533E7C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6FA-ED59-4B42-9563-265967B3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A25-BBA0-4498-95AD-B2E364FF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0C9-8E4C-4C78-B779-43E1F24D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134-6FF8-4925-A8D3-65E94362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B35-006A-4267-9C5B-A88C27D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A2D7-D199-4471-B76F-C042B0AF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A1F-0670-454D-B55D-BCF91F9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C52-C665-4F24-8048-DB2D298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7C04-0BBF-485B-8D7C-7193F8C4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7FBF-0B29-4213-B51B-5323735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CFB-D3B9-45DE-8224-971D621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6CD5-DD38-41A2-8C64-1977379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42D-FBE5-4E9D-8D6E-7A4F8A8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52E-A0DC-451B-953A-897D3EE5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A15-7DFA-4350-8160-6D3C6401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E5AB-9508-4087-86F9-C67DD55A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9D4-8ACA-4CCE-A34D-809656C9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8BB-E2E3-4D0E-8CBD-4F34F81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9C5-4527-4CD1-A064-A1D853C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24A-A101-461A-81EE-CAB799D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3C6-C9AF-4354-AD93-A1262E8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F3C-6406-4CE8-B3E2-F8E4B12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61F-A6AF-4F7B-8450-D5A70D3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99BF-1D04-473B-A7B3-94E7BFC61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242-B50D-4998-BC56-7756210D0D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8;&#1072;&#1085;.&#1074;&#1086;&#1079;&#1088;&#1072;&#1089;&#1090;%20-%20&#1060;&#1069;&#1052;&#1055;/&#1075;&#1080;&#1087;&#1077;&#1088;&#1089;&#1089;&#1099;&#1083;&#1082;&#1080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8;&#1072;&#1085;.&#1074;&#1086;&#1079;&#1088;&#1072;&#1089;&#1090;%20-%20&#1060;&#1069;&#1052;&#1055;/&#1075;&#1080;&#1087;&#1077;&#1088;&#1089;&#1089;&#1099;&#1083;&#1082;&#1080;/&#1052;&#1077;&#1090;&#1086;&#1076;&#1080;&#1082;&#1072;%20&#1091;&#1089;&#1074;.&#1089;&#1077;&#1085;.&#1101;&#1090;.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8;&#1072;&#1085;.&#1074;&#1086;&#1079;&#1088;&#1072;&#1089;&#1090;%20-%20&#1060;&#1069;&#1052;&#1055;/&#1075;&#1080;&#1087;&#1077;&#1088;&#1089;&#1089;&#1099;&#1083;&#1082;&#1080;/&#1084;&#1072;&#1090;&#1077;&#1084;&#1072;&#1090;&#1080;&#1095;&#1077;&#1089;&#1082;&#1080;&#1077;%20&#1087;&#1088;&#1077;&#1076;&#1089;&#1090;&#1072;&#1074;&#1083;&#1077;&#1085;&#1080;&#1103;,.ppt" TargetMode="External"/><Relationship Id="rId3" Type="http://schemas.openxmlformats.org/officeDocument/2006/relationships/hyperlink" Target="file:///&#1088;&#1072;&#1085;.&#1074;&#1086;&#1079;&#1088;&#1072;&#1089;&#1090;%20-%20&#1060;&#1069;&#1052;&#1055;/&#1075;&#1080;&#1087;&#1077;&#1088;&#1089;&#1089;&#1099;&#1083;&#1082;&#1080;/&#1052;&#1077;&#1090;&#1086;&#1076;&#1080;&#1082;&#1072;%20&#1091;&#1089;&#1074;.&#1089;&#1077;&#1085;.&#1101;&#1090;.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анний возра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71640" y="3505320"/>
            <a:ext cx="7486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рмирование элементарных математических представл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риентировка в пространств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ширять опыт ориентировки в частях собственного тема (голова, лицо, руки, ноги, спин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ить двигаться за воспитателем в определенном направл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 концу года дети могу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ктивно участвовать в образовании групп однородных предм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личать «много» предметов и «один»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личать большие и маленькие предметы, называть их раз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 концу года дети могу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вать шар и 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ть расположение и назначение основных помещений группы: игровой, спальной, умывальной, раздевальной ком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ывать на себе, где находится голова, ноги, лицо, спина, рук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уководство самостоятельной деятельность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условий в предметной среде для обогащения опыт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проблем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 и помощь в выполнении действий, которыми ребёнок не овла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деятельност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Закрепление представлений детей о количеств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игр и игровых упражнений («Чудесный мешочек»), путешествий по групповой комнате («Расскажи про наши игрушки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занятий по рассматриванию карти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нализ организации С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обладающее настроение детей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самостоятельно выбрать себ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тельность выполняем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оотношения со взрослым и свер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идактический материа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ые констру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рёшки (4-5, 6-7 мес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ая моза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овой материал, различный по ц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ладные кубики (2-4, до 6 част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ора К.Л., Пантюхина Г.В., Голубева Л.Г. Дети раннего возраста в дошкольных учреждениях: Пособие для педагогов дошк. учреждений. – М.: Гуманитар. изд. центр ВЛАДОС, 2004. – 172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влова Л.Н., Волосова Е.Б., Пилюгина Э.Г. Раннее детство: познавательное развитие. Методической пособие. – М.: Мозаика-Синтез, 2006. – 152 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4149720"/>
            <a:ext cx="352908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507960" cy="64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524720" y="4365720"/>
            <a:ext cx="62712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580000" y="4221000"/>
            <a:ext cx="1008000" cy="89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4221000"/>
            <a:ext cx="1008000" cy="89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ой формирования элементарных математических представлений является </a:t>
            </a:r>
            <a:r>
              <a:rPr b="0" lang="en-US" sz="4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сенсорное развитие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етей раннего возраста, связанное с усвоением сенсорных эталонов: цвет, форма, велич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тодика развития восприятия у детей раннего возрас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рассматривание-обследов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ов, выделение их свойств и кач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 их на основе сходства с уже знакомыми (как шарик, как огурчик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ение предметов по сходству, их классифицик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шение конструкторских задач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кладывание кубиков или кирпичиков друг на друга (башня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положение их рядом (дорожка), в разных пространственных отношениях (диван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ать постройки из разных форм (дом, ворота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ля обыгрывания постройки детям предлагают соразмерную ей сюжетную игруш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ям до 1 года 6 месяцев игрушку предъявляют при завершении по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ям старше 1 года 6 месяцев ее предлагают в начале занятия, давая задание построить, например, дом для матре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казатели развития ребенка второго года жиз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год – 1 год 3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уется в двух контрастных величинах предметов с разницей в 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год 6 месяцев – 1 год 9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уется в трех контрастных величинах предметов (типа кубов) с разницей в 2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усвоение ряда математических представлений, понятий, отношений, закономерно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количеств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, число, порядок, </a:t>
            </a:r>
            <a:r>
              <a:rPr b="0" lang="en-US" sz="36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равенство-неравенств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, целое-часть, величина-мера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формирование представлений о множестве, равенстве, неравенстве предметов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ируя предметы по указанным признакам, создавая из них группы, называется их количество с использованием слов: много-один, много –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риентировка в пространств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должать накапливать опыт практического освоения окружающего пространства (помещения группы и участка детского сада). Учить находить спальную, игровую, умывальную и др.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6:50:20Z</dcterms:created>
  <dc:creator>1</dc:creator>
  <dc:description/>
  <dc:language>en-US</dc:language>
  <cp:lastModifiedBy>raven</cp:lastModifiedBy>
  <dcterms:modified xsi:type="dcterms:W3CDTF">2009-11-23T08:48:45Z</dcterms:modified>
  <cp:revision>9</cp:revision>
  <dc:subject/>
  <dc:title>Ранний возраст </dc:title>
</cp:coreProperties>
</file>